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19T19:13:28.672000000" idx="2">
    <p:pos x="1601" y="471"/>
    <p:text/>
  </p:cm>
</p:cmLst>
</file>

<file path=ppt/comments/comment9.xml><?xml version="1.0" encoding="utf-8"?>
<p:cmLst xmlns:p="http://schemas.openxmlformats.org/presentationml/2006/main">
  <p:cm authorId="0" dt="2016-08-19T19:13:22.547000000" idx="1">
    <p:pos x="5420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3899-946C-434C-BBB3-401106EEA3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EEFA-E856-43A8-AF18-53EE1D531B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DD95-3596-4B8C-A3AF-A5C21492E8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四则混合运算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328920" y="3446640"/>
            <a:ext cx="4483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276720" y="2616120"/>
            <a:ext cx="45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相 遇 问 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0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1"/>
          <p:cNvSpPr/>
          <p:nvPr/>
        </p:nvSpPr>
        <p:spPr>
          <a:xfrm>
            <a:off x="1027080" y="266076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两车的速度和相遇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两地相距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总路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遇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式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88+92)×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2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043000" y="3149640"/>
            <a:ext cx="49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88+92)×5=900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地相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258920" y="2625840"/>
            <a:ext cx="68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高速路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客车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行完全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货车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行完全程。客车的速度比货车的速度快多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对象 32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1"/>
          <p:cNvSpPr/>
          <p:nvPr/>
        </p:nvSpPr>
        <p:spPr>
          <a:xfrm>
            <a:off x="1133640" y="2852640"/>
            <a:ext cx="698472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客车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行完全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货车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行完全程。求客车的速度比货车的速度快多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根据路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分别求出客车和货车的速度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求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504800" y="299736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36÷3.2-336÷4=21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客车的速度比货车的速度快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29400" y="811080"/>
            <a:ext cx="2114640" cy="2033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54" name="矩形 10"/>
          <p:cNvSpPr/>
          <p:nvPr/>
        </p:nvSpPr>
        <p:spPr>
          <a:xfrm>
            <a:off x="1550880" y="17604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和丫丫两家相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天两人同时从家出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向而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每分钟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丫丫每分钟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人经过多长时间相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"/>
          <p:cNvSpPr/>
          <p:nvPr/>
        </p:nvSpPr>
        <p:spPr>
          <a:xfrm rot="18297600">
            <a:off x="6242040" y="414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9" name="矩形 2"/>
          <p:cNvSpPr/>
          <p:nvPr/>
        </p:nvSpPr>
        <p:spPr>
          <a:xfrm>
            <a:off x="2540160" y="3768840"/>
            <a:ext cx="414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0÷70+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400÷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人经过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钟相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10"/>
          <p:cNvSpPr/>
          <p:nvPr/>
        </p:nvSpPr>
        <p:spPr>
          <a:xfrm>
            <a:off x="755640" y="1809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66" name="矩形 19"/>
          <p:cNvSpPr/>
          <p:nvPr/>
        </p:nvSpPr>
        <p:spPr>
          <a:xfrm>
            <a:off x="1028880" y="2708280"/>
            <a:ext cx="66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求二人的速度和时没有添加小括号。如果不添加小括号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按照两级运算的运算顺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先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0÷70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求红红从自己家到丫丫家的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是求红红和丫丫两人的相遇时间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先求出两人的速度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根据总路程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度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遇时间来列式解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70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5"/>
          <p:cNvSpPr/>
          <p:nvPr/>
        </p:nvSpPr>
        <p:spPr>
          <a:xfrm rot="18297600">
            <a:off x="6940440" y="4692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0"/>
          <p:cNvSpPr/>
          <p:nvPr/>
        </p:nvSpPr>
        <p:spPr>
          <a:xfrm rot="18297600">
            <a:off x="5881680" y="25081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"/>
          <p:cNvSpPr/>
          <p:nvPr/>
        </p:nvSpPr>
        <p:spPr>
          <a:xfrm>
            <a:off x="2171880" y="4137120"/>
            <a:ext cx="44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0÷(70+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400÷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人经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相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1979640" y="1954080"/>
            <a:ext cx="414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400÷70+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400÷1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20(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人经过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钟相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0"/>
          <p:cNvSpPr/>
          <p:nvPr/>
        </p:nvSpPr>
        <p:spPr>
          <a:xfrm>
            <a:off x="938160" y="1596960"/>
            <a:ext cx="729468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计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0.5÷0.81+0.18</a:t>
            </a:r>
            <a:r>
              <a:rPr b="0" lang="zh-CN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　　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4.8+4.8÷0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7.25÷1.25÷0.8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2.8×0.81÷0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684360" y="2733840"/>
            <a:ext cx="216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0+0.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0.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同侧圆角矩形 19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788000" y="2724120"/>
            <a:ext cx="216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4.8+9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14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90480" y="4546440"/>
            <a:ext cx="216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5.8÷0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7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4811760" y="4437000"/>
            <a:ext cx="2928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2.268÷0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2.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920880" y="1827360"/>
            <a:ext cx="73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学校食堂买来大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5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克，运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车，还剩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克。平均每车运多少千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同侧圆角矩形 4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1" descr="男孩1"/>
          <p:cNvPicPr/>
          <p:nvPr/>
        </p:nvPicPr>
        <p:blipFill>
          <a:blip r:embed="rId1"/>
          <a:stretch/>
        </p:blipFill>
        <p:spPr>
          <a:xfrm>
            <a:off x="7481880" y="47991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27"/>
          <p:cNvSpPr/>
          <p:nvPr/>
        </p:nvSpPr>
        <p:spPr>
          <a:xfrm>
            <a:off x="3733920" y="5027760"/>
            <a:ext cx="3747960" cy="936360"/>
          </a:xfrm>
          <a:prstGeom prst="wedgeRoundRectCallout">
            <a:avLst>
              <a:gd name="adj1" fmla="val 59189"/>
              <a:gd name="adj2" fmla="val 142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时，一定要先算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124000" y="2965320"/>
            <a:ext cx="4044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850-1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÷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750÷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=25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千克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808200" y="30099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使用小括号解决两步计算的相遇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08200" y="17733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相遇问题中路程、时间和速度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间的关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808200" y="42102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解决问题策略的多样化，增强数学应用意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0"/>
          <p:cNvSpPr/>
          <p:nvPr/>
        </p:nvSpPr>
        <p:spPr>
          <a:xfrm>
            <a:off x="874800" y="1504800"/>
            <a:ext cx="7348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刚家在学校南面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志华家在学校北面。小刚每分钟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6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走到学校用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志华每分钟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6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走到学校用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分钟。小刚家到志华家有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1523880" y="2852640"/>
            <a:ext cx="59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36" descr="男孩1"/>
          <p:cNvPicPr/>
          <p:nvPr/>
        </p:nvPicPr>
        <p:blipFill>
          <a:blip r:embed="rId1"/>
          <a:stretch/>
        </p:blipFill>
        <p:spPr>
          <a:xfrm>
            <a:off x="7164360" y="49593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93" name="同侧圆角矩形 17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3708360" y="5176800"/>
            <a:ext cx="2990880" cy="698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好对应关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2309760" y="3551400"/>
            <a:ext cx="34862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A.65×8+64×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B.65×7+64×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C.(65+64)×(8+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1068480" y="1557360"/>
            <a:ext cx="715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辆摩托车同时从一个地方向相反方向开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车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车每小时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2.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后两车相距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4" descr="男孩1"/>
          <p:cNvPicPr/>
          <p:nvPr/>
        </p:nvPicPr>
        <p:blipFill>
          <a:blip r:embed="rId1"/>
          <a:stretch/>
        </p:blipFill>
        <p:spPr>
          <a:xfrm>
            <a:off x="7415280" y="486900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7"/>
          <p:cNvSpPr/>
          <p:nvPr/>
        </p:nvSpPr>
        <p:spPr>
          <a:xfrm>
            <a:off x="3851280" y="5229360"/>
            <a:ext cx="3497400" cy="698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遇问题的变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同侧圆角矩形 8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788000" y="2419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3075120" y="328464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(42+53)×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(53-42)×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42+53×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927000" y="1557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一辆汽车从甲地开往乙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上午行驶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时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下午行驶了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小时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恰好到达乙地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如果按每小时行驶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55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千米计算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甲地到乙地共有多少千米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同侧圆角矩形 6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624120" y="3754440"/>
            <a:ext cx="331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5×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+4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5×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385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"/>
          <p:cNvGrpSpPr/>
          <p:nvPr/>
        </p:nvGrpSpPr>
        <p:grpSpPr>
          <a:xfrm>
            <a:off x="320760" y="3933720"/>
            <a:ext cx="2938320" cy="2627280"/>
            <a:chOff x="320760" y="3933720"/>
            <a:chExt cx="2938320" cy="2627280"/>
          </a:xfrm>
        </p:grpSpPr>
        <p:pic>
          <p:nvPicPr>
            <p:cNvPr id="210" name="Picture 13" descr="男孩2"/>
            <p:cNvPicPr/>
            <p:nvPr/>
          </p:nvPicPr>
          <p:blipFill>
            <a:blip r:embed="rId1"/>
            <a:stretch/>
          </p:blipFill>
          <p:spPr>
            <a:xfrm>
              <a:off x="320760" y="4761360"/>
              <a:ext cx="119520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27"/>
            <p:cNvSpPr/>
            <p:nvPr/>
          </p:nvSpPr>
          <p:spPr>
            <a:xfrm>
              <a:off x="927360" y="3933720"/>
              <a:ext cx="2331720" cy="936000"/>
            </a:xfrm>
            <a:prstGeom prst="wedgeRoundRectCallout">
              <a:avLst>
                <a:gd name="adj1" fmla="val -39324"/>
                <a:gd name="adj2" fmla="val 76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算一共走了几小时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1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27"/>
          <p:cNvSpPr/>
          <p:nvPr/>
        </p:nvSpPr>
        <p:spPr>
          <a:xfrm>
            <a:off x="5940360" y="1603440"/>
            <a:ext cx="2952720" cy="1295280"/>
          </a:xfrm>
          <a:prstGeom prst="wedgeRoundRectCallout">
            <a:avLst>
              <a:gd name="adj1" fmla="val -73652"/>
              <a:gd name="adj2" fmla="val -20449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这四个量中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知道任意三个量都可以求出第四个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1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矩形 21"/>
          <p:cNvSpPr/>
          <p:nvPr/>
        </p:nvSpPr>
        <p:spPr>
          <a:xfrm>
            <a:off x="615960" y="3716280"/>
            <a:ext cx="7891560" cy="1758600"/>
          </a:xfrm>
          <a:prstGeom prst="rect">
            <a:avLst/>
          </a:prstGeom>
          <a:solidFill>
            <a:srgbClr val="ff0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×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遇时间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遇时间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甲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遇时间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乙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乙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遇时间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速度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华文新魏"/>
                <a:ea typeface="华文新魏"/>
              </a:rPr>
              <a:t>甲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615960" y="5443560"/>
            <a:ext cx="7891560" cy="459720"/>
          </a:xfrm>
          <a:prstGeom prst="rect">
            <a:avLst/>
          </a:prstGeom>
          <a:solidFill>
            <a:srgbClr val="6dff44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混合运算的运算顺序：混合运算中，先算乘除法，后算加减法，有小括号的先算小括号里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116000" y="1773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题的运算顺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333440" y="277956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+8-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53200" y="2684520"/>
            <a:ext cx="186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-8+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971640" y="4869000"/>
            <a:ext cx="34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8-42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÷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333440" y="377028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÷3×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219640" y="486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8-78÷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292720" y="3789360"/>
            <a:ext cx="18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×3÷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1409760" y="336564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5448240" y="3365640"/>
            <a:ext cx="106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1333440" y="4432320"/>
            <a:ext cx="1067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5372280" y="4356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2124000" y="5444640"/>
            <a:ext cx="1671840" cy="3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6084720" y="5445000"/>
            <a:ext cx="917640" cy="25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21"/>
          <p:cNvSpPr/>
          <p:nvPr/>
        </p:nvSpPr>
        <p:spPr>
          <a:xfrm>
            <a:off x="468360" y="7524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84200" y="1407960"/>
            <a:ext cx="2071800" cy="50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"/>
          <p:cNvSpPr/>
          <p:nvPr/>
        </p:nvSpPr>
        <p:spPr>
          <a:xfrm>
            <a:off x="1079640" y="1415880"/>
            <a:ext cx="7343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客车和一辆货车同时从北京和郑州相对开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相遇。北京和郑州相距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5101.EPS" descr="id:2147506690;FounderCES"/>
          <p:cNvPicPr/>
          <p:nvPr/>
        </p:nvPicPr>
        <p:blipFill>
          <a:blip r:embed="rId1"/>
          <a:stretch/>
        </p:blipFill>
        <p:spPr>
          <a:xfrm>
            <a:off x="2151000" y="2311560"/>
            <a:ext cx="5545080" cy="1958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067360" y="2679840"/>
            <a:ext cx="804960" cy="85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男孩1"/>
          <p:cNvPicPr/>
          <p:nvPr/>
        </p:nvPicPr>
        <p:blipFill>
          <a:blip r:embed="rId3"/>
          <a:stretch/>
        </p:blipFill>
        <p:spPr>
          <a:xfrm>
            <a:off x="7267680" y="443700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7"/>
          <p:cNvSpPr/>
          <p:nvPr/>
        </p:nvSpPr>
        <p:spPr>
          <a:xfrm>
            <a:off x="4476600" y="4502160"/>
            <a:ext cx="2791080" cy="806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辆车都走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后碰到了一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2" descr="女孩2"/>
          <p:cNvPicPr/>
          <p:nvPr/>
        </p:nvPicPr>
        <p:blipFill>
          <a:blip r:embed="rId4"/>
          <a:stretch/>
        </p:blipFill>
        <p:spPr>
          <a:xfrm>
            <a:off x="250920" y="443700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7"/>
          <p:cNvSpPr/>
          <p:nvPr/>
        </p:nvSpPr>
        <p:spPr>
          <a:xfrm>
            <a:off x="1676520" y="4467240"/>
            <a:ext cx="26794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079640" y="1415880"/>
            <a:ext cx="73436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客车和一辆货车同时从北京和郑州相对开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相遇。北京和郑州相距多少千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2" descr="女孩2"/>
          <p:cNvPicPr/>
          <p:nvPr/>
        </p:nvPicPr>
        <p:blipFill>
          <a:blip r:embed="rId1"/>
          <a:stretch/>
        </p:blipFill>
        <p:spPr>
          <a:xfrm>
            <a:off x="299880" y="2641680"/>
            <a:ext cx="1432080" cy="1800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27"/>
          <p:cNvSpPr/>
          <p:nvPr/>
        </p:nvSpPr>
        <p:spPr>
          <a:xfrm>
            <a:off x="1731960" y="2948040"/>
            <a:ext cx="2963880" cy="934920"/>
          </a:xfrm>
          <a:prstGeom prst="wedgeRoundRectCallout">
            <a:avLst>
              <a:gd name="adj1" fmla="val -61388"/>
              <a:gd name="adj2" fmla="val -2215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两种车各走了多少，再合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070600" y="3882960"/>
            <a:ext cx="2396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92+80)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72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88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米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3" descr="男孩1"/>
          <p:cNvPicPr/>
          <p:nvPr/>
        </p:nvPicPr>
        <p:blipFill>
          <a:blip r:embed="rId2"/>
          <a:stretch/>
        </p:blipFill>
        <p:spPr>
          <a:xfrm>
            <a:off x="7367760" y="307656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7"/>
          <p:cNvSpPr/>
          <p:nvPr/>
        </p:nvSpPr>
        <p:spPr>
          <a:xfrm>
            <a:off x="4813200" y="3076560"/>
            <a:ext cx="2791080" cy="80640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算两种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一共走了多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2139840" y="3882960"/>
            <a:ext cx="23972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92×4+80×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368+3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88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2468520" y="523080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北京和郑州相距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8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155680" y="5767560"/>
            <a:ext cx="4678560" cy="52128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总路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速度和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×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相遇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079640" y="1415880"/>
            <a:ext cx="734364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辆卡车和一辆小轿车分别从甲、乙两地同时出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过几小时两车相遇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3" descr="男孩1"/>
          <p:cNvPicPr/>
          <p:nvPr/>
        </p:nvPicPr>
        <p:blipFill>
          <a:blip r:embed="rId1"/>
          <a:stretch/>
        </p:blipFill>
        <p:spPr>
          <a:xfrm>
            <a:off x="7297560" y="4149720"/>
            <a:ext cx="1616400" cy="17985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>
            <a:off x="4751280" y="3979800"/>
            <a:ext cx="2516400" cy="153684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求卡车和小轿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共行了多少千米，一定要添加小括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5103.EPS" descr="id:2147506711;FounderCES"/>
          <p:cNvPicPr/>
          <p:nvPr/>
        </p:nvPicPr>
        <p:blipFill>
          <a:blip r:embed="rId2"/>
          <a:stretch/>
        </p:blipFill>
        <p:spPr>
          <a:xfrm>
            <a:off x="1704960" y="2341440"/>
            <a:ext cx="6093000" cy="1622520"/>
          </a:xfrm>
          <a:prstGeom prst="rect">
            <a:avLst/>
          </a:prstGeom>
          <a:ln w="0">
            <a:noFill/>
          </a:ln>
        </p:spPr>
      </p:pic>
      <p:sp>
        <p:nvSpPr>
          <p:cNvPr id="99" name="矩形 1"/>
          <p:cNvSpPr/>
          <p:nvPr/>
        </p:nvSpPr>
        <p:spPr>
          <a:xfrm>
            <a:off x="501480" y="39481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15÷(42+6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15÷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3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经过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时两车相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1731960" y="5784840"/>
            <a:ext cx="4678200" cy="52128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相遇时间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总路程</a:t>
            </a: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÷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速度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3" descr="男孩1"/>
          <p:cNvPicPr/>
          <p:nvPr/>
        </p:nvPicPr>
        <p:blipFill>
          <a:blip r:embed="rId1"/>
          <a:stretch/>
        </p:blipFill>
        <p:spPr>
          <a:xfrm>
            <a:off x="5884920" y="1239840"/>
            <a:ext cx="1616040" cy="17985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7"/>
          <p:cNvSpPr/>
          <p:nvPr/>
        </p:nvSpPr>
        <p:spPr>
          <a:xfrm>
            <a:off x="2540160" y="1544760"/>
            <a:ext cx="2823840" cy="595080"/>
          </a:xfrm>
          <a:prstGeom prst="wedgeRoundRectCallout">
            <a:avLst>
              <a:gd name="adj1" fmla="val 61347"/>
              <a:gd name="adj2" fmla="val 1745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用列表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Users\Administrator\AppData\Roaming\Tencent\Users\781547643\QQ\WinTemp\RichOle\9N]ODE]EM_GP[AFZDDPK}OE.png"/>
          <p:cNvPicPr/>
          <p:nvPr/>
        </p:nvPicPr>
        <p:blipFill>
          <a:blip r:embed="rId2"/>
          <a:stretch/>
        </p:blipFill>
        <p:spPr>
          <a:xfrm>
            <a:off x="1195560" y="3357720"/>
            <a:ext cx="66751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1200240" y="3984480"/>
            <a:ext cx="7169040" cy="521280"/>
          </a:xfrm>
          <a:prstGeom prst="rect">
            <a:avLst/>
          </a:prstGeom>
          <a:solidFill>
            <a:srgbClr val="4f81b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混合运算的运算顺序：混合运算中，先算乘除法，后算加减法，有小括号的先算小括号里面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同侧圆角矩形 7"/>
          <p:cNvSpPr/>
          <p:nvPr/>
        </p:nvSpPr>
        <p:spPr>
          <a:xfrm>
            <a:off x="468360" y="752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线连接符 21"/>
          <p:cNvSpPr/>
          <p:nvPr/>
        </p:nvSpPr>
        <p:spPr>
          <a:xfrm flipV="1">
            <a:off x="468360" y="140796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3"/>
          <p:cNvGrpSpPr/>
          <p:nvPr/>
        </p:nvGrpSpPr>
        <p:grpSpPr>
          <a:xfrm>
            <a:off x="1187280" y="1687680"/>
            <a:ext cx="4964400" cy="1800000"/>
            <a:chOff x="1187280" y="1687680"/>
            <a:chExt cx="4964400" cy="1800000"/>
          </a:xfrm>
        </p:grpSpPr>
        <p:pic>
          <p:nvPicPr>
            <p:cNvPr id="111" name="Picture 72" descr="女孩2"/>
            <p:cNvPicPr/>
            <p:nvPr/>
          </p:nvPicPr>
          <p:blipFill>
            <a:blip r:embed="rId1"/>
            <a:stretch/>
          </p:blipFill>
          <p:spPr>
            <a:xfrm>
              <a:off x="1187280" y="1687680"/>
              <a:ext cx="1431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AutoShape 27"/>
            <p:cNvSpPr/>
            <p:nvPr/>
          </p:nvSpPr>
          <p:spPr>
            <a:xfrm>
              <a:off x="2903400" y="1935720"/>
              <a:ext cx="3248280" cy="934920"/>
            </a:xfrm>
            <a:prstGeom prst="wedgeRoundRectCallout">
              <a:avLst>
                <a:gd name="adj1" fmla="val -61388"/>
                <a:gd name="adj2" fmla="val -2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四则混合运算的顺序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1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187280" y="26496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、乙两列火车分别从两地同时出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对开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甲车每小时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车每小时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后相遇。两地相距多少千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09:34:00Z</dcterms:created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11:13:43Z</dcterms:modified>
  <cp:revision>279</cp:revision>
  <dc:subject>www.xkb1.com</dc:subject>
  <dc:title>www.xkb1.com</dc:title>
</cp:coreProperties>
</file>